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F767-08EA-47F4-B4CC-F29E7BB21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D001-8634-4F13-94E7-1024DD5ED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0A6-5999-4BA9-B371-955E86D0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ECD-7EB7-4BA5-802B-CC322465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C1B-D366-490A-AEFA-16B208AD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384-B39E-4B4A-A7D3-C9FC9D91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3B7-7737-46E6-9A40-DE153364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A363-3E21-4AE7-B8AB-E2CA236F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D89-1D79-4B11-B098-CFCA1846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A35-4E9D-40B9-9CFA-E6BEE4D4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549-74E5-4F09-AB2A-97C4AA2B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916-B7A7-4767-B61A-FA69024F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8E0-F3EC-4480-8327-92909E53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18E-2E6C-404C-B9CC-ADC75462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7FD1-488C-410B-BA34-C11B43D71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um Sheik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Yo soy Anum. Tengo catorce años. Yo soy feliz y emocionada. Vivo en New York City. Tengo dos herman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327672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5105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5105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8:26:55Z</dcterms:modified>
  <cp:revision>103</cp:revision>
  <dc:subject/>
  <dc:title>Profile</dc:title>
</cp:coreProperties>
</file>